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12B-E650-401F-929C-DE1F3842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CBE-BABC-4CE6-9C4F-503F88CB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C7A-AEAF-4587-B1A0-35B38450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415-DC1B-4859-9302-978B0C7B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67A-F17D-4CAB-89ED-4F6DAE4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E600-35B1-4312-8A4A-193D75CC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036-B622-4B61-9778-3B6F2F0E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3C0-7BDB-4B73-8ABF-BF76F5E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EF96-7795-47B2-9F39-223D61E6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1B9F-8674-4A3D-8E68-0720D216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A3D6-1ECA-4B8D-991E-CBCEC6C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BF7-2C91-4961-9AC9-E103DFF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A503-1C62-4FF5-988E-F8D9024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1DA4-F3E7-400D-9B9F-F0B2C13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8DC2-58EF-48AF-B26E-4C5B57BE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59CA-EF43-44AE-B3C8-D5D90C22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A0D9-1174-4CA7-BE07-08D5A772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A63-ED81-4B01-BB54-EACB5A2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EF2-6A3F-486D-9285-61F7B380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BB5-6801-45F7-9417-D7447F6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024-E2AA-4A4F-B4BA-AC80F3CD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B45-AA0D-46ED-B862-D708FC3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055-0D51-4552-B5A1-E206714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743-D19E-4C0C-945E-AF3CB7F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EE1-3248-475C-9A1F-2E207DC2E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D42-C53E-4242-A337-00841B4FA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AIR vs. FREE TRADE CARTO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cartoon is most comp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3300"/>
                </a:solidFill>
                <a:latin typeface="Arial Black"/>
              </a:rPr>
              <a:t>Criteri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es COMPELLING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normal_lapsityo_jalkapallo_eng" descr=""/>
          <p:cNvPicPr/>
          <p:nvPr/>
        </p:nvPicPr>
        <p:blipFill>
          <a:blip r:embed="rId1"/>
          <a:stretch/>
        </p:blipFill>
        <p:spPr>
          <a:xfrm>
            <a:off x="2239920" y="577800"/>
            <a:ext cx="46641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06_cartoon_want_want_want_small_over" descr=""/>
          <p:cNvPicPr/>
          <p:nvPr/>
        </p:nvPicPr>
        <p:blipFill>
          <a:blip r:embed="rId1"/>
          <a:stretch/>
        </p:blipFill>
        <p:spPr>
          <a:xfrm>
            <a:off x="1905120" y="1185840"/>
            <a:ext cx="48956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ree-trade%20cartoon" descr=""/>
          <p:cNvPicPr/>
          <p:nvPr/>
        </p:nvPicPr>
        <p:blipFill>
          <a:blip r:embed="rId1"/>
          <a:stretch/>
        </p:blipFill>
        <p:spPr>
          <a:xfrm>
            <a:off x="1066680" y="1127160"/>
            <a:ext cx="60962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5-26-Free-Trade-2" descr=""/>
          <p:cNvPicPr/>
          <p:nvPr/>
        </p:nvPicPr>
        <p:blipFill>
          <a:blip r:embed="rId1"/>
          <a:stretch/>
        </p:blipFill>
        <p:spPr>
          <a:xfrm>
            <a:off x="1143000" y="920880"/>
            <a:ext cx="6858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59:07Z</dcterms:created>
  <dc:creator>hdsb</dc:creator>
  <dc:description/>
  <dc:language>en-US</dc:language>
  <cp:lastModifiedBy>hdsb</cp:lastModifiedBy>
  <dcterms:modified xsi:type="dcterms:W3CDTF">2009-12-09T15:11:40Z</dcterms:modified>
  <cp:revision>3</cp:revision>
  <dc:subject/>
  <dc:title>FAIR TRADE CARTOONS</dc:title>
</cp:coreProperties>
</file>